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948F-0FFC-4D5C-8302-5D449474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1513-D7C8-4742-8999-0BFE368A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ECB-7438-46EE-ABB5-015C49C0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120-782A-45EB-8AC7-0DF9F119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2C43-D49C-4875-872B-84F66447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C2B3-FB3F-4E42-A8D1-FA2DECEE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4690-DD37-4500-831A-1D203403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1863-5431-49FC-BCDF-D1F245FB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4A39-BF44-425B-8F7F-C4BEFE9B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19CB-22A5-4069-81A1-C83D2231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6908-82F7-4E74-B99A-0382DE70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2DD-D5F4-4EFE-A5ED-D0D9E7D0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8CC1-6D12-4627-905F-CC872B2B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E487-9EAA-4C19-8A54-663DAEEC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06D8-D857-4F90-AF55-A6A5C0F7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52FE-FC64-48E3-B6C7-90101B1B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1E34-4354-4F0E-BD3A-E6740EB5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73B-A25E-42F5-A2F8-39D1E847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61E-A508-4E34-AB73-73D85530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717-3D1C-4F4B-92E4-88E5BAE8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375-2997-4F64-AE02-2B5D4CFE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7FE-BAA1-4169-9A56-E44ADC2E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F5E-22E4-4DA4-A9D6-F1D04741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A7C-4091-464A-94C6-5316849E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0A51-272E-406F-A72C-A83C1A04A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8B8A-5F93-41D5-A38D-6D4F76CA7D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ames@epdgp.org.au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Home Medicine Review </a:t>
            </a:r>
            <a:br>
              <a:rPr sz="4400"/>
            </a:b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and Mental Health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 collaborativ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xisting HMR process left int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troduce modified forms that enables third party involvement incorporated in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MR Refer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quest for Referr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ischarge Request for Referr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mbined CPD event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harmacis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(education based on needs assess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The Importance of MH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troduced as viable third party support to assist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atient iden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quests for refer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terview *co atten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(*pharmacist and / or patient suppor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Patient Benefi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dditional support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otential for improved health outcomes and Q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mproved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duced risk of illness exacerbation and hospital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GP Benefi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dditional support structure to assist clinical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mproved quality of Inform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duced risk of illness exacerb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creased ease of patie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MHS Benefi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dditional support structure to assis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formation ex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duced risk of illness exacerb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creased ease of patie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Pharmacist Benefi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dditional support structure to assist HM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ppropriate refer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mproved quality of HM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*Process</a:t>
            </a:r>
            <a:br>
              <a:rPr sz="4400"/>
            </a:br>
            <a:r>
              <a:rPr b="0" lang="en-AU" sz="1400" spc="-1" strike="noStrike">
                <a:solidFill>
                  <a:srgbClr val="b7e7ff"/>
                </a:solidFill>
                <a:latin typeface="Arial"/>
              </a:rPr>
              <a:t>*Contingent on consent for third party involvement being completed</a:t>
            </a:r>
            <a:endParaRPr b="0" lang="en-US" sz="1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ep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HS or pharmacists identifies pat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AU" sz="3200" spc="-1" strike="noStrike">
                <a:solidFill>
                  <a:srgbClr val="ffffff"/>
                </a:solidFill>
                <a:latin typeface="Arial"/>
              </a:rPr>
              <a:t>Request for HMR Referral” compl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quest then sent to G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(Go to step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*Process</a:t>
            </a:r>
            <a:br>
              <a:rPr sz="4400"/>
            </a:br>
            <a:r>
              <a:rPr b="0" lang="en-AU" sz="1400" spc="-1" strike="noStrike">
                <a:solidFill>
                  <a:srgbClr val="b7e7ff"/>
                </a:solidFill>
                <a:latin typeface="Arial"/>
              </a:rPr>
              <a:t>*Contingent on consent for third party involvement being completed</a:t>
            </a:r>
            <a:endParaRPr b="0" lang="en-US" sz="1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pon receipt of </a:t>
            </a:r>
            <a:r>
              <a:rPr b="0" i="1" lang="en-AU" sz="3200" spc="-1" strike="noStrike">
                <a:solidFill>
                  <a:srgbClr val="ffffff"/>
                </a:solidFill>
                <a:latin typeface="Arial"/>
              </a:rPr>
              <a:t>“Request for HMR Referral”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from MHS or pharmacist, GP completes the </a:t>
            </a:r>
            <a:r>
              <a:rPr b="0" i="1" lang="en-AU" sz="3200" spc="-1" strike="noStrike">
                <a:solidFill>
                  <a:srgbClr val="ffffff"/>
                </a:solidFill>
                <a:latin typeface="Arial"/>
              </a:rPr>
              <a:t>“HMR Referr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MR Referral despatched to Pharmaci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go to step 3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*Process</a:t>
            </a:r>
            <a:br>
              <a:rPr sz="4400"/>
            </a:br>
            <a:r>
              <a:rPr b="0" lang="en-AU" sz="1400" spc="-1" strike="noStrike">
                <a:solidFill>
                  <a:srgbClr val="b7e7ff"/>
                </a:solidFill>
                <a:latin typeface="Arial"/>
              </a:rPr>
              <a:t>*Contingent on consent for third party involvement being completed</a:t>
            </a:r>
            <a:endParaRPr b="0" lang="en-US" sz="1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ep 2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ote: if patient initially identified by GP, </a:t>
            </a:r>
            <a:r>
              <a:rPr b="0" i="1" lang="en-AU" sz="3200" spc="-1" strike="noStrike">
                <a:solidFill>
                  <a:srgbClr val="ffffff"/>
                </a:solidFill>
                <a:latin typeface="Arial"/>
              </a:rPr>
              <a:t>HMR Referral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s completed</a:t>
            </a:r>
            <a:r>
              <a:rPr b="0" i="1" lang="en-AU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spatched to Pharmaci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Go to step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hysical and mental ill health are strongly link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edication often features in contemporary mental and physical health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*Process</a:t>
            </a:r>
            <a:br>
              <a:rPr sz="4400"/>
            </a:br>
            <a:r>
              <a:rPr b="0" lang="en-AU" sz="1400" spc="-1" strike="noStrike">
                <a:solidFill>
                  <a:srgbClr val="b7e7ff"/>
                </a:solidFill>
                <a:latin typeface="Arial"/>
              </a:rPr>
              <a:t>*Contingent on consent for third party involvement being completed</a:t>
            </a:r>
            <a:endParaRPr b="0" lang="en-US" sz="1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pon receipt of referral, Pharmacist assesses referral and ascertains if consent for third party involvement has been provi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Go to step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*Process</a:t>
            </a:r>
            <a:br>
              <a:rPr sz="4400"/>
            </a:br>
            <a:r>
              <a:rPr b="0" lang="en-AU" sz="1400" spc="-1" strike="noStrike">
                <a:solidFill>
                  <a:srgbClr val="b7e7ff"/>
                </a:solidFill>
                <a:latin typeface="Arial"/>
              </a:rPr>
              <a:t>*Contingent on consent for third party involvement being completed</a:t>
            </a:r>
            <a:endParaRPr b="0" lang="en-US" sz="1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f consent for third party has been provided, pharmacist contacts MH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formation exchanged as agreed and /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rrange for the HMR interview including patient, pharmacist and mental health wor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(Go to step 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*Process</a:t>
            </a:r>
            <a:br>
              <a:rPr sz="4400"/>
            </a:br>
            <a:r>
              <a:rPr b="0" lang="en-AU" sz="1400" spc="-1" strike="noStrike">
                <a:solidFill>
                  <a:srgbClr val="b7e7ff"/>
                </a:solidFill>
                <a:latin typeface="Arial"/>
              </a:rPr>
              <a:t>*Contingent on consent for third party involvement being completed</a:t>
            </a:r>
            <a:endParaRPr b="0" lang="en-US" sz="1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ep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harmacist completes HMR interview and compiles report to G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rrangement for patient follow up visit to G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Go to step 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*Process</a:t>
            </a:r>
            <a:br>
              <a:rPr sz="4400"/>
            </a:br>
            <a:r>
              <a:rPr b="0" lang="en-AU" sz="1400" spc="-1" strike="noStrike">
                <a:solidFill>
                  <a:srgbClr val="b7e7ff"/>
                </a:solidFill>
                <a:latin typeface="Arial"/>
              </a:rPr>
              <a:t>*Contingent on consent for third party involvement being completed</a:t>
            </a:r>
            <a:endParaRPr b="0" lang="en-US" sz="1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tep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P peruses report and completes Medication Pl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py provide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harmac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Sustainabl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P reimbursed via MBS 900 at end of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harmacist reimbursed via agreed pro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HS agreed to provide service as part of core busin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Sustainabl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ervice available ann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tegrates into Care Planning (item 7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st effective from time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motes Shared Car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Promotion / Suppor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yre Peninsula Division of General Practice HMR Facilitator wil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omote initi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upport collaborativ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velop agreed processes and provide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rganise joint educational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velop evaluation in conjunction with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GR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yre Peninsula Division of General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MR Facilitator 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Jim Coll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hone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868255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mail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james@epdgp.org.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ife expectancy of people using mental health services is in the 50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ath rate of people using mental health services – 250% higher than the general popu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pression affe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40-60% of people who experience a M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18-20% of people with C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25% of people with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5-10% of medical out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10-14% of hospitalised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Mental Health on E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8 staff cover 45,000 square k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HS staff to patient ratio – 14 per 10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etro staff to patient ratio – *30 per 100,000 or bet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imited number of GPs with large portfolios available to manage pat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(* QLD sta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The Go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 promote a more </a:t>
            </a:r>
            <a:r>
              <a:rPr b="1" lang="en-AU" sz="2400" spc="-1" strike="noStrike" u="sng">
                <a:solidFill>
                  <a:srgbClr val="ffffff"/>
                </a:solidFill>
                <a:uFillTx/>
                <a:latin typeface="Arial"/>
              </a:rPr>
              <a:t>focused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AU" sz="2400" spc="-1" strike="noStrike" u="sng">
                <a:solidFill>
                  <a:srgbClr val="ffffff"/>
                </a:solidFill>
                <a:uFillTx/>
                <a:latin typeface="Arial"/>
              </a:rPr>
              <a:t>sustainable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approach of the Home Medicine Review (HMR) initiative for people experiencing a </a:t>
            </a:r>
            <a:r>
              <a:rPr b="1" lang="en-AU" sz="2400" spc="-1" strike="noStrike" u="sng">
                <a:solidFill>
                  <a:srgbClr val="ffffff"/>
                </a:solidFill>
                <a:uFillTx/>
                <a:latin typeface="Arial"/>
              </a:rPr>
              <a:t>mental health illness.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This will provide them with an </a:t>
            </a:r>
            <a:r>
              <a:rPr b="1" lang="en-AU" sz="2400" spc="-1" strike="noStrike" u="sng">
                <a:solidFill>
                  <a:srgbClr val="ffffff"/>
                </a:solidFill>
                <a:uFillTx/>
                <a:latin typeface="Arial"/>
              </a:rPr>
              <a:t>additional support strategy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whilst bringing greater alignment and </a:t>
            </a:r>
            <a:r>
              <a:rPr b="1" lang="en-AU" sz="2400" spc="-1" strike="noStrike" u="sng">
                <a:solidFill>
                  <a:srgbClr val="ffffff"/>
                </a:solidFill>
                <a:uFillTx/>
                <a:latin typeface="Arial"/>
              </a:rPr>
              <a:t>collaboration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between GPs, pharmacists and mental health service providers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 create a sustainable support structure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Mental Health Services (M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G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harmac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troduce Pharmacists to the MH support net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y default, will improve stakeholder collabo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crease range of MH resources avail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kindle GP interest in the HMR initi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mprove quality and quantity of HMR being offered to patients with MH ill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mprove health outcomes and Q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ess acute exacerb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mproved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ower hospitalisation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Why?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an be easily imbedded within existing practice and support stru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monstrates synergy with shared care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eate a culture of information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eates more opportunities for simple integration with other Enhanced Primary Care activit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(eg Care Planning, PIP etc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00:18:44Z</dcterms:created>
  <dc:creator>collj01</dc:creator>
  <dc:description/>
  <dc:language>en-US</dc:language>
  <cp:lastModifiedBy>collj01</cp:lastModifiedBy>
  <dcterms:modified xsi:type="dcterms:W3CDTF">2004-12-01T04:44:51Z</dcterms:modified>
  <cp:revision>9</cp:revision>
  <dc:subject/>
  <dc:title>Home Medicine Review  and Mental Healt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52941706</vt:r8>
  </property>
  <property fmtid="{D5CDD505-2E9C-101B-9397-08002B2CF9AE}" pid="3" name="_AuthorEmail">
    <vt:lpwstr>james@epdgp.org.au</vt:lpwstr>
  </property>
  <property fmtid="{D5CDD505-2E9C-101B-9397-08002B2CF9AE}" pid="4" name="_AuthorEmailDisplayName">
    <vt:lpwstr>jim</vt:lpwstr>
  </property>
  <property fmtid="{D5CDD505-2E9C-101B-9397-08002B2CF9AE}" pid="5" name="_EmailSubject">
    <vt:lpwstr>Powerpoint</vt:lpwstr>
  </property>
</Properties>
</file>